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791-6E11-4535-9131-32CD6E44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ED5-90AB-4425-8D25-ADD90713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F17-7BC0-40F1-8568-9C54CD7A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CEB-22CC-4BCC-B483-412B6538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5AAA-189B-4123-A53D-5573B16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724B-EB0A-425E-A027-D768EF80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3612-C49B-417F-BC63-05E1E76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B439-7900-457A-8AA1-81CDDB9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011-C24C-4C15-9503-117FBCEA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D65D-D732-46C3-A660-015ECC75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3C06-B7A2-453D-9E03-30106F3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C99-32D9-4466-A447-3A5210DA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76E2-EE7F-40BC-994E-53EFD17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EFB4-0F6E-400C-9314-B22C4E4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C138-1DBA-43FC-A293-707747FF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A2B0-D1A8-4286-8182-39721387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27D2-19B8-4EEF-9BD5-82D563C0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D4C-802D-42AE-BE4B-B0F387D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B01-CE4B-45F2-ADA3-C30C5FB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9B5-BD47-4E7E-AA9E-0F8F3C0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1F4-47D3-495E-8E9D-C1AA2DA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476-1C19-4606-AC20-E0A089F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25F-62BC-42C6-B0EE-B41689B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24C-A2BB-4B11-B0DD-3B0A71A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49AD-921B-4724-89FD-02ECA28D42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3520-76B4-4223-B280-2629B0683D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432160"/>
            <a:ext cx="715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POMNIENIE WIERSZYKA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 I BUDOWY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7360" y="1494000"/>
            <a:ext cx="40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stem sobie kreską ułamk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dzielenia wciąż got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cznik stoi nade m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nownik pode m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2708280"/>
            <a:ext cx="7809120" cy="1665000"/>
            <a:chOff x="542880" y="2708280"/>
            <a:chExt cx="7809120" cy="16650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5560" y="2708280"/>
                  <a:ext cx="1036800" cy="16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5697360" y="2933640"/>
              <a:ext cx="21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icz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5920" y="3743280"/>
              <a:ext cx="265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anow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880" y="3292200"/>
              <a:ext cx="348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kreska ułamkow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zastępująca znak dziele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560" y="3157560"/>
              <a:ext cx="5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7720" y="396864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6640" y="3608280"/>
              <a:ext cx="58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57360" y="4508640"/>
            <a:ext cx="71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skazuje na ile części została podzielona cał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ówi nam, ile części wyróżni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resk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owa zastępuje dzie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ną formą zapisania dziel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46640" y="5904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ła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32400" y="5815080"/>
                <a:ext cx="1434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RACANIE I ROZSZERZANIE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11336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by skrócić ułamek należy licznik i mianownik ułamk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dzieli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0" y="3732120"/>
            <a:ext cx="78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by rozszerzyć ułamek należy jego licznik i mianowni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mnoży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81280" y="1989000"/>
                <a:ext cx="38386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51280" y="4597560"/>
                <a:ext cx="3405240" cy="14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WŁAŚCIWE, UŁAMKI NIEWŁAŚCIWE I LICZBY MIESZ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7360" y="1576440"/>
            <a:ext cx="69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mniej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7360" y="315900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nie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więk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57360" y="459252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iczby miesza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zbudowana jest z liczby naturalnej i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72000" y="3567240"/>
                <a:ext cx="2147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4880" y="5072040"/>
                <a:ext cx="3462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672000" y="2035080"/>
                <a:ext cx="21826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842000" y="5668920"/>
            <a:ext cx="211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 większym iloczynie szukamy licznika ułam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UŁAM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1179360"/>
            <a:ext cx="65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orównywanie ułamków o jednakowych li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275436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równywanie ułamków o jednakowych mianow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2000" y="418320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orównywanie ułamków o różnych mianownikach – metoda mnożenia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57360" y="1752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tych samych licz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niejszy mian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46280" y="3249720"/>
            <a:ext cx="56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jednakowych mianow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 lic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686640" y="1898640"/>
                <a:ext cx="67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42000" y="3519360"/>
                <a:ext cx="63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767720" y="5443560"/>
                <a:ext cx="76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512720" y="5138640"/>
            <a:ext cx="1753920" cy="990360"/>
            <a:chOff x="1512720" y="5138640"/>
            <a:chExt cx="1753920" cy="9903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77040" y="5138640"/>
                  <a:ext cx="4896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512720" y="5138640"/>
                  <a:ext cx="55152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 flipV="1">
              <a:off x="2064240" y="5400360"/>
              <a:ext cx="800640" cy="46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4240" y="5400360"/>
              <a:ext cx="751320" cy="522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51280" y="509436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1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= 24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&lt; 24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630864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58080" y="55339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ą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ODAWANIE I ODEJMOWANIE UŁAMKÓW ZWYK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64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2000" y="153828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da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dodać ułamki o tych samych mianownikach doda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50920" y="3699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ejmo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odjąć ułamki o tych samych mianownikach odejmu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32000" y="2347920"/>
                <a:ext cx="3060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997360" y="4527720"/>
                <a:ext cx="34192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KOŃ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2079720"/>
            <a:ext cx="51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już koniec przygody z ułam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otkamy się, gdy będziecie piąta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eszcze więcej się dow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i tak już dużo um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3203640"/>
            <a:ext cx="2087640" cy="2087640"/>
            <a:chOff x="5292720" y="3203640"/>
            <a:chExt cx="2087640" cy="2087640"/>
          </a:xfrm>
        </p:grpSpPr>
        <p:graphicFrame>
          <p:nvGraphicFramePr>
            <p:cNvPr id="174" name=""/>
            <p:cNvGraphicFramePr/>
            <p:nvPr/>
          </p:nvGraphicFramePr>
          <p:xfrm>
            <a:off x="6188040" y="3203640"/>
            <a:ext cx="119232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8040" y="3203640"/>
                      <a:ext cx="119232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292720" y="3564000"/>
              <a:ext cx="990720" cy="73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11:54Z</dcterms:modified>
  <cp:revision>57</cp:revision>
  <dc:subject/>
  <dc:title>Slajd 1</dc:title>
</cp:coreProperties>
</file>